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CD9-58DA-492B-BD8F-395F7385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E1C-0BBC-4453-9F72-D899AF72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138-14FF-428E-8C57-72356A43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672-7DBD-4050-821B-3F736CEB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4C1E-B6D9-46EE-ACEE-487A0173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E9F5-FCFD-4DDE-9792-811F0C36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A69D-49F3-404C-83DA-673E1998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70FD-FABC-457B-95FA-006517F0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AA41-86DA-416B-89D9-F0E885FD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0E86-B833-4748-A468-D90BD9AC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E4E6-B7E6-481F-83AA-D0D0F5AF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1FE-F29F-421A-8565-9233D3E9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D95D-01D0-456E-BC46-77DD684C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E16A-D178-4524-9AC2-042652B1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59C5-AC5B-4338-9B42-87AA7BEF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024F-1435-46F1-A9BC-5C5B8F56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2DB3-FBDE-4D90-84E4-066A99F7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32D-C552-441C-AA54-31F6A521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377A-49BD-4B4E-AA45-3E2B4FAD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CC8-C80F-426E-81E0-4ABB141A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C2B3-8D7C-4F30-AEB9-792EB331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C7C-F2AA-41D7-AF92-692DC532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205-C9C4-4CA3-8FFC-E0BD2402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EBF-6F4C-40FF-8C83-D4F16C8F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E88E-7212-4B62-8A67-030B9EE31067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3908-E779-416D-A11A-34F0538674D2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2666880"/>
            <a:ext cx="75438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Garamond"/>
              </a:rPr>
              <a:t>Inventory is often referred to as the graveyard of business because over investment in stock is a frequent cause of business fail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80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STOCK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14400" y="1905120"/>
            <a:ext cx="72388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the typical ways of keeping a paper based system up to date involve the use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ca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ob cards are used as a means of keeping account of the amount of goods you have p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66996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ff"/>
                </a:solidFill>
                <a:latin typeface="Arial"/>
              </a:rPr>
              <a:t>PAPER BASED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425760" y="4005360"/>
            <a:ext cx="19083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62120" y="2139840"/>
            <a:ext cx="76197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ck ca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use minimum/maximum stock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ck cards are used to monitor the amount of raw materials that are 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ing this system, you need to cons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taken for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ility of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e of the stock i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66996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STOCK C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5159520" cy="43178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219320" y="6699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STOCK CONTROL SH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1905120"/>
            <a:ext cx="79246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Requisition books are used to request an order to be raised for materials. A duplicate of the requisition is then forwarded to the purchasing depar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This system works well if the employees are vigilant toward maintaining stock.</a:t>
            </a:r>
            <a:r>
              <a:rPr b="0" lang="en-GB" sz="2400" spc="-1" strike="noStrike">
                <a:solidFill>
                  <a:srgbClr val="000000"/>
                </a:solidFill>
                <a:latin typeface="A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aramond"/>
              </a:rPr>
              <a:t>A requisition is </a:t>
            </a:r>
            <a:r>
              <a:rPr b="1" lang="en-US" sz="3600" spc="-1" strike="noStrike">
                <a:solidFill>
                  <a:srgbClr val="ff0000"/>
                </a:solidFill>
                <a:latin typeface="AGaramond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Garamond"/>
              </a:rPr>
              <a:t> an order for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14400" y="701640"/>
            <a:ext cx="546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Trebuchet MS"/>
              </a:rPr>
              <a:t>REQUISITION BOO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990720" y="2000160"/>
            <a:ext cx="731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dockets are used to account for and recor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ward g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materials coming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ward good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duct go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86920" y="685800"/>
            <a:ext cx="50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Trebuchet MS"/>
              </a:rPr>
              <a:t>DELIVERY DOCK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879200" y="473040"/>
            <a:ext cx="510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Trebuchet MS"/>
              </a:rPr>
              <a:t>CUSTOMER OR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1941480"/>
            <a:ext cx="8610480" cy="48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ders from customers are received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f raw materials nee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ra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using this method, </a:t>
            </a:r>
            <a:r>
              <a:rPr b="0" lang="en-US" sz="2400" spc="-1" strike="noStrike">
                <a:solidFill>
                  <a:srgbClr val="6666ff"/>
                </a:solidFill>
                <a:latin typeface="Times New Roman"/>
              </a:rPr>
              <a:t>consumabl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not indic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advant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cannot start on the customer order until the stock arr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vant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you don’t spend a lot of money on stock with the risk that you may not use it. You can use customer depos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eria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WHICH SYSTEM DO YOU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1866960"/>
            <a:ext cx="7848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s help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iminate extra paper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ntralise stock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orders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s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er stock data man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ering data with bar code 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canning documents, such as inv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520" y="609480"/>
            <a:ext cx="9096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ff"/>
                </a:solidFill>
                <a:latin typeface="Arial"/>
              </a:rPr>
              <a:t>COMPUTER GENERATED REC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1492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barcode" descr=""/>
          <p:cNvPicPr/>
          <p:nvPr/>
        </p:nvPicPr>
        <p:blipFill>
          <a:blip r:embed="rId1"/>
          <a:stretch/>
        </p:blipFill>
        <p:spPr>
          <a:xfrm>
            <a:off x="6095880" y="5591160"/>
            <a:ext cx="1514520" cy="657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797360" y="1789200"/>
            <a:ext cx="41180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352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200016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of the following information can be produced by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vo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r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lier li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60" y="309600"/>
            <a:ext cx="908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ff"/>
                </a:solidFill>
                <a:latin typeface="Arial"/>
              </a:rPr>
              <a:t>COMPUTER GENERATED REC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419720" y="2475000"/>
            <a:ext cx="41176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838080" y="53352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DATA E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957320"/>
            <a:ext cx="73915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mputer application can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ck to see if the stock is on 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duce an order for more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ce an interim hold on the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 a job c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 working draw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 delivery dock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inv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8224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15000" y="2955960"/>
            <a:ext cx="2822400" cy="23781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80880" y="30492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BARCODE SYSTEMS</a:t>
            </a:r>
            <a:r>
              <a:rPr b="1" lang="en-GB" sz="40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2216160"/>
            <a:ext cx="53341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system can be used for all sorts of stock items, suc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xes of 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ds of ti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ainers of adhes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xes of fittings and access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1986120"/>
            <a:ext cx="6705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Many business costs, suc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A storeman’s 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Storag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Insurance of the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Interest on borrowed mon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re directly related to investment in invent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80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STOCK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0880" y="30492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BARCODE SYSTEMS</a:t>
            </a:r>
            <a:r>
              <a:rPr b="1" lang="en-GB" sz="40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715000" y="3260880"/>
            <a:ext cx="2822400" cy="2377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3520" y="1927080"/>
            <a:ext cx="49528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codes are attached to all goods or groups of goods and can contain a whole range of information, suc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lie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e of expiry, if applic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0880" y="30492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ff"/>
                </a:solidFill>
                <a:latin typeface="Arial"/>
              </a:rPr>
              <a:t>SCAN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822400" cy="23781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533520" y="1909800"/>
            <a:ext cx="48006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canner is a piece of equip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cts like a photocopier and c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used to copy a paper invoice or or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fer this copy to the computer for storage and easy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text recognition, so the information can be interpreted and processed by the computer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2280" y="1346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STOCK CONTROL WITHOUT RECORD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031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ailed records of stock movements and levels may not always be necessar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small busines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operato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oks after all stock contro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business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refabricated or made-to-order produ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BIN SYSTEM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Bin systems can replace formal stock control record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002120" cy="2143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648320" y="3343320"/>
            <a:ext cx="4002120" cy="21430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30492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bin, 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 b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three b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71160" y="60732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IMPREST SYSTEMS</a:t>
            </a:r>
            <a:r>
              <a:rPr b="1" lang="en-GB" sz="40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imprest system, an upper limit is set for inventory items in 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rders are placed to bring the inventory back up to this level. This level equals the quantity necessary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 supplies to cover delivery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tain supplies to cover the review peri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607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STOCKTAKING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ocktaking is the process of counting the amount of materials and goods the company has on hand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ysical stocktakes are important so you can identif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crepancies between what is ordered and what is recei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crepancies between prices paid and value recei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tterns of us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STOCKTA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2473200"/>
            <a:ext cx="79250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cktakes are usually held at least twice a ye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 points to remember when stock tak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tock recording sheets and stickers so things aren’t counted tw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Electronic recording devices make it much fa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04920" y="990720"/>
            <a:ext cx="861048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efficient the control of stock is, the less will be wasted or stored unnecessar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od stock contro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s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ves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kes sure the workplace is more 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can use paper based and computer based stock control method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rd the movement of stock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tain stock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just levels to meet dem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59040" y="312840"/>
            <a:ext cx="27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66ff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76320" y="349200"/>
            <a:ext cx="8991360" cy="6433920"/>
            <a:chOff x="76320" y="349200"/>
            <a:chExt cx="8991360" cy="6433920"/>
          </a:xfrm>
        </p:grpSpPr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1639800" y="488880"/>
              <a:ext cx="6056280" cy="629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152280" y="349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Your companies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15200" y="1523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Order No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33920" y="2209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Supplier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8520" y="23004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Delivery address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20" y="27576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Date of order: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0120" y="34434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Order mak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772400" y="3062160"/>
              <a:ext cx="838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20120" y="304812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Courier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43800" y="28195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COD/30 Day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520" y="31240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Quant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8600" y="351936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Litre / she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8600" y="390060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C grade 12mm 7 p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2400x 1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9480" y="479916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Special Instru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96080" y="56386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Costs and char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" y="61405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ff"/>
                  </a:solidFill>
                  <a:latin typeface="Times New Roman"/>
                </a:rPr>
                <a:t>Authorising signature and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62120" y="2209680"/>
            <a:ext cx="7543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it is important to control stock and inventory so that ther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enough to keep work flowing effici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ot too much so that money spent on the stock lies idle while it is not used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380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STOCK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143000" y="21351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inventory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simply a list of all the goods purchased and used in the manufacturing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4086360"/>
            <a:ext cx="6782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w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ished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80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</a:rPr>
              <a:t>STOCK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43320"/>
            <a:ext cx="7162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ck control is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e the costs of running the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e excess stock and wa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ke sure there are enough goods to meet the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eed up deliveries to custo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53352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66ff"/>
                </a:solidFill>
                <a:latin typeface="Arial"/>
              </a:rPr>
              <a:t>STOCK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90720" y="838080"/>
            <a:ext cx="739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Trebuchet MS"/>
              </a:rPr>
              <a:t>WHAT ITEMS ARE RECORD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905120"/>
            <a:ext cx="75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quipment, such as static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ols, such as hammers and span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ckaging, such as bubble wrap or bo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e parts, such as extra cutterblades fo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ssories, such as door hand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consumables, such as nails and scre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13372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chart" descr=""/>
          <p:cNvPicPr/>
          <p:nvPr/>
        </p:nvPicPr>
        <p:blipFill>
          <a:blip r:embed="rId1"/>
          <a:stretch/>
        </p:blipFill>
        <p:spPr>
          <a:xfrm>
            <a:off x="533520" y="2162160"/>
            <a:ext cx="8126280" cy="42228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6320" y="304920"/>
            <a:ext cx="8915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Arial"/>
              </a:rPr>
              <a:t>A TYPICAL PRODUCTION PROC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838080" y="44136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6666ff"/>
                </a:solidFill>
                <a:latin typeface="Trebuchet MS"/>
              </a:rPr>
              <a:t>HOW IS STOCK CONTROLL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924200"/>
            <a:ext cx="7467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s can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based, such as hand written stock car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 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 gener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3600360"/>
            <a:ext cx="7620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ck control records should cont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description of the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ails of where the goods are stored or lo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mount of goods currently h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tails about the movement of the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066680" y="2062080"/>
            <a:ext cx="4724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Used to control stock 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Purchase requis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Purchase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Delivery d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Garamond"/>
              </a:rPr>
              <a:t>Inv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60948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Arial"/>
              </a:rPr>
              <a:t>DOCUMENTS AND 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6T23:31:13Z</dcterms:created>
  <dc:creator>GREG CHEETHAM</dc:creator>
  <dc:description/>
  <dc:language>en-US</dc:language>
  <cp:lastModifiedBy>gcheetham</cp:lastModifiedBy>
  <dcterms:modified xsi:type="dcterms:W3CDTF">2008-08-17T23:10:41Z</dcterms:modified>
  <cp:revision>13</cp:revision>
  <dc:subject/>
  <dc:title>PowerPoint Presentation</dc:title>
</cp:coreProperties>
</file>